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40067-53F9-4910-9414-47E722EAB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3D958-D6CB-4F26-A055-EC3CEE6F9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C6B3CA-6B6F-4CBF-B4CE-59D94F3EF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8F7E06-E5CF-49FD-8BC6-45F903F3E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7D9B1A-B767-44A6-AB7C-76952657A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0F649A-E8BE-4A54-9711-4896A3ECC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A31F6D-95F7-4EF8-AF9B-57D0707B7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5289C9-3B84-4E1F-BEA2-704C2C85B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CFEEE2-7EE1-4C3A-87BC-BA740F1BE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135489-0C57-4F4B-B739-AD24A646B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0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0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1734B0-315A-41BE-8A46-6EF7A0E89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00A2C9-37FA-4135-BDB5-8310AD371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6D4F9-9C4F-4E23-8B8E-A515E2588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AA5911-EFB0-471D-93CE-F6CEF2B3C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130928-0B25-49EB-BB64-A188385AD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85DC8B-D484-42FF-AB97-732F1B05A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FD6429-CFBD-49A8-A775-0E1ACFDE1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754967-9186-4890-B3D3-05264395E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13FB6D-D97B-4B8A-AD4A-D87ABCCAD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4D2446-C623-4C7F-8ECB-C17108054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E6EB1B-6C4D-4709-9CA1-876B3CEE3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1D01CF-FBE3-4D14-9849-77914B578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EB3A1E-3AC0-49FC-91C0-7B5F712B5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9C497-C08A-4F6F-9685-160328907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4EE387-8A4E-4E52-A5F2-BDE839765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0C0F77-D387-4A0B-AA68-1ABA502EA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B7D200-7FA0-413D-B27B-747B87076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754216-1001-4C7B-A4F5-94E009D8C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AB42EE-BB12-4F96-B6AA-AA2AF3694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D71BC6-A3C0-4892-A0A4-9B690B8A8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E596BF-CEB0-4A43-8EB5-236310C6F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BD5205-47CC-4E4A-9A68-F9139033A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70962B-8496-414D-A62C-DCE34840C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2E5F62-CDA5-4045-AE31-6BD94A9AD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649057-FBB1-4613-AED2-3A526E8C9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5CD824-DD75-434D-B797-5D8D4E2B0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778F4D-69BB-48FC-B832-0297BA149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8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8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8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C62C18-7BF7-495D-8B20-E82FA280D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A5728D-A1EF-4500-A187-A9E06A16F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6698BF-58F7-419D-A3F6-F90563383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D81272-E66E-4C1C-808D-93B8C1CBD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BD785D-62F9-40A0-9638-B1C6BB5B7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0BD242-8FC2-4996-9525-C78A1BCA0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349814-B5A1-4DC5-BDFA-162AEFEEE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2F530A-6CCA-4172-9B4E-D3E092E33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AD5DBF-0CDC-4AEF-87EE-C42703FC3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9F1F81-69EA-4D08-9358-64052375D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D39796-3D74-4539-8374-C032DECF2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592B9C-B125-4D7F-8C57-1F61EE5A6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2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A01736-6FDD-4404-9916-00E218B41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2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2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2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2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17260B-EAA4-49E0-95CE-3CD334DAC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264683A-972B-42C9-A809-B6478FE58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4E04EC5-33C2-4024-A71C-147BBD326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9B6221D-905A-46E0-A9EF-70C570452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1AAB72F-6458-4511-9AB7-0FD22D67B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39103F9-4327-46C8-ABB0-9946C6A56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AA4FAD-1EA6-45F8-91A0-AE885A41D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36FA941-3EEA-4196-B4AE-B7C9ECB84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4FBFB29-32B8-4A06-AA75-E7472F4E2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AF28F7A-CCC6-4F10-A7F2-7C3222988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06B5A34-3088-4CB9-893A-40BCFB58D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714421C-9AFD-4662-8C10-AF9CCA68D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8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0A9CDB0-AC7C-4FC5-9076-74AE54C92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9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9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9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8315218-137E-49D2-A30E-519270F5A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8C76793-B95C-4530-84FC-97D3798F9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D92531C-9C6C-41E7-9D59-5D080C2CD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3761F7E-C21D-4173-B091-A8A09FA7F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BA7CC6-0601-4259-8054-4F6C530EB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4DD36CE-8C78-4306-A480-7ED571818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E345073-25EA-4DFC-9353-B12F93ADA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5F3F9D9-1C44-46DE-A059-C664088DD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B3FA001-D85B-436A-805C-71EC78CDA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0CBCDBC-B657-47BF-AEB1-33CFE7FAF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FAD9549-03FC-4AAB-897E-66DECD18B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B527465-9852-442E-A413-DE7F1DCF2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9E6BF97-2BF7-46A9-B0AC-5851AD75E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5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5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5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7CD7629-8FCA-486A-BB92-247BB07EB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0F091A-C94C-4FAE-AA61-115304820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CE9624-A86A-497B-90E1-4CC883918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BAC943-2BBF-4816-A375-2E8E29C5C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2A497-9145-4303-9A0A-BA339EAAA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276600-0713-4AFC-B70E-38F06F59D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744D05-A590-4E3B-B40F-E788F97EB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F9F445-71F0-4B06-A156-C02BFA07E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05831B-8AA6-4BC5-A709-6D9401071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B6A02B-7CFC-4ED1-84EF-7947A7014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7398636-721B-4CFA-ADDA-E078CDF25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2A5CDD6-AEEF-4AF1-B6E7-77EA01639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4875C51-0851-4E89-A40A-4F98FE01F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CE2787D-AFD1-4F43-993D-4F9B1C257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7EB0C62-DBBA-48CB-99F4-81E635D7C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B3760-17C8-4C23-B449-6DD4BE1EB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45EB664-7FFA-48FD-8E5E-3628A5B80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3E92CD7-3D3A-4DAF-83C1-34F5D99D9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E2DAED5-C5B0-4AC9-AEC0-8AC97EB1C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B23D3C2-EB2A-4D9D-9854-00473109A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5E473BF-32F3-4ED1-BC22-8979941D0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422272F-4A1F-4A54-96BC-78B14FF12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18F8072-CA42-40BB-A65F-9C131D83D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43D099-EFA6-48A0-A581-6FD630195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C1CD25-76FD-4807-A0BF-8D61EBB4B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05D88A-0A34-4744-9C8E-A5058BE0E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DFE70-BBC8-4271-8115-A87E76C14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4FDD9A-53C9-4EC9-9257-0150A7AA3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AD53C2-1DFF-4286-997C-E1A761A5F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3651F9-1F2A-4595-B55F-7569FD859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105158-617D-432B-ABEA-7DF03B8F7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9B3E45-BEA2-483C-96E6-AE566A80C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C13342-6AF1-41A1-A496-55B86D819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AD4D36-3C1C-4180-913D-4A92EC86F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5DF507-4BD9-4C99-869C-503B9D55C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5C3F32-A220-48A2-BD6F-9103DB11A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C23BA9-AA74-47D1-945C-7F7117174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FB2A7-CB09-4DCC-A575-F07DC4077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DD5151-3D4F-4EF2-95FF-47EB1803C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51C939-0154-4B87-9CCF-BBEF98A8B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EB43B2-A630-408E-91BE-C7C8B6059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54976E-C8D3-4333-9549-4D5B4403F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B096F9-7DEE-4C27-8211-70ACF3FDD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CC5649-3BB8-498B-A11A-451F8623D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5EF089-3376-4F8D-9CD8-3444A684F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66CB58-AB5C-4289-BCBB-C2ECCFCD7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6D388D-FA99-4E7A-8F24-315F0AD61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D70A5D-661C-4EA8-AB48-C5B89A4FF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9B96F-5D3A-4D7D-9ABE-85848AE77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DEDFF9-DFB3-4CE2-83DE-E042818C3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CF694FD-2B99-423B-8D95-BA36DC537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335A2B1-C878-4D18-B6CA-0CC779AFD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3878ABF-2153-4579-A1D2-04FC81DC5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B27F0A9-7A7F-4DE8-97FB-522CE9D3D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7DEE0AD-F2DB-4E86-9439-ADB2EDA1C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A566ACC-4B05-4EB8-8C99-F0AEEF1CF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1BDB5E5-B43F-412E-9F9D-14F80E0AF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D340806-2565-48FB-8A06-60A8820C8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31E5AC2-6699-4EAA-9EE3-450ACCC75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A5708-91E3-41E1-B7C2-7530328FC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8E7C6AB-15D0-4165-8CC2-CA6604CF4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66E25C1-8AFE-464C-A282-DD3F6DF6A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02E799C-E4EB-4F00-A6CF-40A065869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46CB42-6E31-4A68-9E6A-71331ED40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7A4A72-7750-41DD-B795-94C632F58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0D28E8-9AEC-4390-8595-544A2EDD2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402190-8999-4C98-AB2E-F30DFEBF5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576A39-DC15-43C3-BAF4-0FD1CE325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B0EAED-4DAB-43A0-9229-302112275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97C25F-D872-4EEB-869C-0416E62C5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B33A2-0D6C-492D-B7D0-7A6466D5E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4BC6F7-B823-43D1-8BFF-C2663C687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7232A8-1665-49B0-BDFB-229E44815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9C107E-4BD5-4157-9AE3-CFBF369BA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2CA9BD-FA8C-4239-A3E8-36ABAB365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99349C-81C6-4A76-90B1-DE4B8519E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504C30-7C12-4D79-8D88-25A1EBF5D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5E34BD-B5C6-4C7D-B80A-0D82206A2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36DE2F-0A5B-4F7C-9C72-91DB71156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1C85AC-1ECA-4536-A0E6-4C19C023A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A21B0D-8D3E-4ED4-803C-02384AA59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762AA-BF41-46FA-A103-40EE47CA8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18E102-8809-4F3A-9D76-D063DC07F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C3F65C-AE9E-47A3-B2B7-3176BB9D6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3B9838-16B4-46AE-8B3D-870DA7793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D85449-13E2-4AA8-98E0-C29F4D804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A75B2B-AFC8-4D38-86CE-AC6055791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4F35C1-F0DB-4D53-98D1-1725F6994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B918E1-25BC-4DAF-9CB4-79574BA4E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BDEDAF-A2E7-4FE0-A704-2E59A3750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937748-EE4F-44ED-BEC8-9DB471CE5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F222A5-F5D7-4284-86E4-9928E5F89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628FD-B661-43F9-B91F-37FE05B182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2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703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 type="dt" idx="28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 type="ftr" idx="29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 type="sldNum" idx="30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DFB76-6C64-430F-AE37-A1E7D8A2E2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3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41810-3BDC-42FB-9492-78D507AC2CD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A121F-6748-4E11-940C-70440F9293F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83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 type="ftr" idx="3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5" name="PlaceHolder 4"/>
          <p:cNvSpPr>
            <a:spLocks noGrp="1"/>
          </p:cNvSpPr>
          <p:nvPr>
            <p:ph type="sldNum" idx="3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6247E-B3D5-42C0-A0B9-0E949233C84C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6" name="PlaceHolder 5"/>
          <p:cNvSpPr>
            <a:spLocks noGrp="1"/>
          </p:cNvSpPr>
          <p:nvPr>
            <p:ph type="dt" idx="3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89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 type="dt" idx="4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 type="sldNum" idx="4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01BF3-97FE-40D4-AACF-7DD405E827B2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58813-A009-49BC-9289-FE9C8A9414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ldNum" idx="8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EDB8C-1B38-42B4-8722-307ED455C2A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86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87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2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4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9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3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34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35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10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ftr" idx="11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sldNum" idx="12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528EC-9A4F-4B4A-81EC-0C1AF95C8DE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83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5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187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88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189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96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1FD25-EAA5-4E06-A8EA-B4CEA35CF8B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3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244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6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248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49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250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55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6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257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sldNum" idx="1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9DB22-44C5-46FF-9BB6-3D5B22527E7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3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304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305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07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308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10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311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13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314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315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7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318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319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0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1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322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3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4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325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6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7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328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9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0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331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3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34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5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6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9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40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1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2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343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4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5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346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7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8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349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0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1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352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3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4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355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6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7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358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9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0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361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2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3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364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5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6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367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8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9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370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1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2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373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4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5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376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7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8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379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0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1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383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384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5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6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387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8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9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390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1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2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393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4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5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396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7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8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399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0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1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402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3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4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405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6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7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408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9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0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411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2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3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414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5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16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44124-6490-4817-AB4C-D32E43F23504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9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480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481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83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484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485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486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7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8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489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490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1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92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493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4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95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496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7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98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499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0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01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502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3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04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505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6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07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508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9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10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511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2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13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514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5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16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517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8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19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520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1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22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523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4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25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526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7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28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529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0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31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532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3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34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535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6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37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538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9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40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541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2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43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544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5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46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547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8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49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550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1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52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3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554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555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6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57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558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9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60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561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2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63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564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5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66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567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8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69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570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1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72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573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4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75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576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7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78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579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0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81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582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3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84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585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6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587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588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589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0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1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2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3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4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5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96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97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598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5E19D-11EF-4B22-898E-B10A18A99236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2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653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61" name="PlaceHolder 1"/>
          <p:cNvSpPr>
            <a:spLocks noGrp="1"/>
          </p:cNvSpPr>
          <p:nvPr>
            <p:ph type="dt" idx="25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ftr" idx="26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 type="sldNum" idx="27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366C1-CC72-471F-8BF9-8313234BB9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7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7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9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2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4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La Cas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r: Joe Berthiaum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La piscina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Mi piscina es grande, moderna, y lujosa.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983" name="" descr=""/>
          <p:cNvPicPr/>
          <p:nvPr/>
        </p:nvPicPr>
        <p:blipFill>
          <a:blip r:embed="rId1"/>
          <a:stretch/>
        </p:blipFill>
        <p:spPr>
          <a:xfrm>
            <a:off x="2438280" y="3276720"/>
            <a:ext cx="4343400" cy="32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s mi mansion.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i mansi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Arial"/>
              </a:rPr>
              <a:t>ón es  moderno and increibl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59" name="" descr=""/>
          <p:cNvPicPr/>
          <p:nvPr/>
        </p:nvPicPr>
        <p:blipFill>
          <a:blip r:embed="rId1"/>
          <a:stretch/>
        </p:blipFill>
        <p:spPr>
          <a:xfrm>
            <a:off x="1828800" y="2590920"/>
            <a:ext cx="525780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Es una cocina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121932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i cocina es bonita y magnific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2" name="" descr=""/>
          <p:cNvPicPr/>
          <p:nvPr/>
        </p:nvPicPr>
        <p:blipFill>
          <a:blip r:embed="rId1"/>
          <a:stretch/>
        </p:blipFill>
        <p:spPr>
          <a:xfrm>
            <a:off x="3048120" y="2857680"/>
            <a:ext cx="32004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Es una sala.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Mi sala es grande y lujosa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965" name="" descr=""/>
          <p:cNvPicPr/>
          <p:nvPr/>
        </p:nvPicPr>
        <p:blipFill>
          <a:blip r:embed="rId1"/>
          <a:stretch/>
        </p:blipFill>
        <p:spPr>
          <a:xfrm>
            <a:off x="914400" y="3314880"/>
            <a:ext cx="4762440" cy="35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Es un cuarto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i cuarto es estupendo y bello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8" name="" descr=""/>
          <p:cNvPicPr/>
          <p:nvPr/>
        </p:nvPicPr>
        <p:blipFill>
          <a:blip r:embed="rId1"/>
          <a:stretch/>
        </p:blipFill>
        <p:spPr>
          <a:xfrm>
            <a:off x="2133720" y="3314880"/>
            <a:ext cx="3657600" cy="27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Es un comedor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i comedor es impresionante y fabulos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1" name="" descr=""/>
          <p:cNvPicPr/>
          <p:nvPr/>
        </p:nvPicPr>
        <p:blipFill>
          <a:blip r:embed="rId2"/>
          <a:stretch/>
        </p:blipFill>
        <p:spPr>
          <a:xfrm>
            <a:off x="2286000" y="2971800"/>
            <a:ext cx="472428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s una garaje.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i garaje es moderno y estupend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74" name="" descr=""/>
          <p:cNvPicPr/>
          <p:nvPr/>
        </p:nvPicPr>
        <p:blipFill>
          <a:blip r:embed="rId1"/>
          <a:stretch/>
        </p:blipFill>
        <p:spPr>
          <a:xfrm>
            <a:off x="1447920" y="2819520"/>
            <a:ext cx="4800600" cy="31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Es un ba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  <a:ea typeface="Arial"/>
              </a:rPr>
              <a:t>ñ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o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l ba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Arial"/>
              </a:rPr>
              <a:t>ño es moderno y bonit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7" name="" descr=""/>
          <p:cNvPicPr/>
          <p:nvPr/>
        </p:nvPicPr>
        <p:blipFill>
          <a:blip r:embed="rId2"/>
          <a:stretch/>
        </p:blipFill>
        <p:spPr>
          <a:xfrm>
            <a:off x="3581280" y="3521160"/>
            <a:ext cx="3733920" cy="201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Es un jardin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i jardin es grand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0" name="" descr=""/>
          <p:cNvPicPr/>
          <p:nvPr/>
        </p:nvPicPr>
        <p:blipFill>
          <a:blip r:embed="rId1"/>
          <a:stretch/>
        </p:blipFill>
        <p:spPr>
          <a:xfrm>
            <a:off x="2286000" y="2819520"/>
            <a:ext cx="4191120" cy="31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2T13:09:56Z</dcterms:created>
  <dc:creator>berthiaumejos</dc:creator>
  <dc:description/>
  <dc:language>en-US</dc:language>
  <cp:lastModifiedBy>berthiaumejos</cp:lastModifiedBy>
  <dcterms:modified xsi:type="dcterms:W3CDTF">2012-10-25T17:08:27Z</dcterms:modified>
  <cp:revision>7</cp:revision>
  <dc:subject/>
  <dc:title>La Casa</dc:title>
</cp:coreProperties>
</file>